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4FB-1499-48D4-9A71-7308CCE6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891-2CE4-4C81-B9EB-55200D95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600-CD11-43F5-81AB-3059889A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EA6-921D-441A-8421-36A3163C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34B3-7598-42BD-B172-2F55F467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0779-3BF1-41A9-A97A-17E89A28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A826-80B2-4556-B21D-08729ADE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7608-1B6A-49E2-B834-7FB22F9D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698D-907A-4E5D-8774-5C421EA1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8C11-FB51-4933-9039-74B187C8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E5EA-E12F-4A4A-9B7C-2A6417F7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DB67-337A-47D7-BE17-A32274BE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03C6-6C8E-4600-B220-6306CB57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373D-1159-40EF-9A17-998BF2B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0085-D079-44A8-A83E-DE22AB59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497F-A5FC-4A09-8D73-B5C7F49B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8D0A-C3A7-4D83-BBBD-5D81D195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C2C-DB11-42C7-92C1-2FEFC8C8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5B72-4012-4012-85D0-89726E82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78D-5B08-48A5-888D-5F3D557B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047-7D5E-4F54-928F-8CC04C72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908-EA5B-4DD9-A05C-DA06B31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7DF-1197-4CC4-8F28-F9908F42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9B8-5CA0-4861-B1DD-B6EDD0E8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7A71-2D70-4D3E-AB18-771DB3B126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AA92-2026-4D87-BCEF-CC51242A710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ill There Was No Remedy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rter 6, Lesson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gs. 78-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Kings 11-12; J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ehoiada Renews The Covenan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hoiada, the Priest, removed Athaliah as Queen – 2 Kgs.11:1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laims Joash as the king of J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makes covenants between the Lord, the king, and the people -  17-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estroy the idols of B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 year old Joash is led into the palace and takes his place on the th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el the Prophe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 work complemented the work of Jehoiada in calling upon the people to rep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vere locust invasion had ravaged the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of Jo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vastation of the locusts – 1:2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to repentance – 1:13-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y of the Lord – 2:1-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cond call to repentance – 2:12-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tline of Joe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ise of Blessings – 2:18-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ouring of God’s Spirit – 2:28-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filled in Acts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ctory Promised to God’s People – 3:1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dah and Israe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ash takes two wives -2 Chron.24: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ash commands that the temple be repaired -2 Kgs.12: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ear of Jo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airing the temple – 2 Kgs.12:6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ehu is still reig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ath of Je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ehoahaz – 17 years (evil) – 2 Kgs.13:1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s character – 2 Kgs.13: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3:53:36Z</dcterms:created>
  <dc:creator>Terry W. Benton</dc:creator>
  <dc:description/>
  <dc:language>en-US</dc:language>
  <cp:lastModifiedBy>Terry W. Benton</cp:lastModifiedBy>
  <dcterms:modified xsi:type="dcterms:W3CDTF">2005-09-07T14:26:48Z</dcterms:modified>
  <cp:revision>2</cp:revision>
  <dc:subject/>
  <dc:title>Till There Was No Remedy</dc:title>
</cp:coreProperties>
</file>